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3E5F-BB93-4B50-BCE8-5599A1D95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E5C5-6555-4F22-A948-6D8A2F82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74D5-6057-485C-98D9-8D6EF212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EFE5-9CEB-4D22-A552-C60BE12C1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65E2-C109-4B46-9B99-920889F4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5AB4-612B-4EFC-8E64-25CD4936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87A7-4537-47CC-8FAA-285EFC03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CA1F-3264-45A4-AFC2-BA38A38C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7F9D-2B4A-4B30-A27C-D387D0E0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8F14-84A0-4FBB-8455-7331A04F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1F2D-54CC-4B18-A42D-E06B684B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4B48-40AC-4852-B582-77F32054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DD80-FD1B-4096-8329-750E439BADA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59280" y="4005360"/>
            <a:ext cx="4284720" cy="28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ربي جسدك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4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جسدُكَ مأكَلٌ حقاً ربّي دَمُكَ مشرَبٌ حقاً طوبى لمن يرتَوي منهم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42920" y="3527280"/>
            <a:ext cx="7345440" cy="297684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624120"/>
            <a:ext cx="9144000" cy="451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الأغصانِ اثبَتوا فيَّ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أتوا بثِمارٍ جمّ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87280" y="3624120"/>
            <a:ext cx="7129800" cy="59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َالَ الرَّبُ أَنَا الْكَرْمَ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َنْتُمْ أَغْصَانُ الْكَرْمَ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9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جسدُكَ مأكَلٌ حقاً ربّي دَمُكَ مشرَبٌ حقاً طوبى لمن يرتَوي منهم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1" name=""/>
          <p:cNvSpPr/>
          <p:nvPr/>
        </p:nvSpPr>
        <p:spPr>
          <a:xfrm>
            <a:off x="0" y="1989000"/>
            <a:ext cx="46432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ثلَ الهائِمِ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الصحراء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َبحَثُ عن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َطَراتِ الماء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642600" y="0"/>
            <a:ext cx="6360480" cy="667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كذا يلهَفُ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لبي إليك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َ الهِدايةُ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َ الرجاء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4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جسدُكَ مأكَلٌ حقاً ربّي دَمُكَ مشرَبٌ حقاً طوبى لمن يرتَوي منهم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6" name=""/>
          <p:cNvSpPr/>
          <p:nvPr/>
        </p:nvSpPr>
        <p:spPr>
          <a:xfrm>
            <a:off x="4788000" y="1989000"/>
            <a:ext cx="43560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يأك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خبزِ الل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َن يشرَ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خمرِ الل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68600" y="189000"/>
            <a:ext cx="6636240" cy="536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رث الحياة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أبدية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ُعطى السعادة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دُنيا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9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جسدُكَ مأكَلٌ حقاً ربّي دَمُكَ مشرَبٌ حقاً طوبى لمن يرتَوي منهم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5:08Z</dcterms:created>
  <dc:creator>Charbel Azar</dc:creator>
  <dc:description/>
  <dc:language>en-US</dc:language>
  <cp:lastModifiedBy>ف</cp:lastModifiedBy>
  <dcterms:modified xsi:type="dcterms:W3CDTF">2006-04-17T23:27:04Z</dcterms:modified>
  <cp:revision>16</cp:revision>
  <dc:subject/>
  <dc:title>PowerPoint Presentation</dc:title>
</cp:coreProperties>
</file>